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CF70-B2F2-44F2-8E00-589B80B9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A605-790E-4ABF-A3BC-38CB07BE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7A8B-3FF7-4D89-A21A-9DFDF58FF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4106-87B6-4598-8924-0ADDCFA19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E889-C027-416F-B5B3-C77AB0EF8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F284-6891-47E7-808C-CFDF34F2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9FA5-3AD7-4EE2-89E1-BC74D906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DF1D-B6AE-4721-8A4F-F4F24A49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5076-DFA5-4BAF-B0E1-2B2491B9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154D-F999-4ADC-822E-2400B82A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5995-8D54-4F81-91B4-4FB6D0D1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035B-EF19-4881-813B-ED387C83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B6C2-6EE9-4FDF-8BE1-0AADBE20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B873-A88B-41AD-AD34-E83DD163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36C8-B620-40E6-B034-ABC91491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6E72-7324-4218-BF90-D93411F7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43EA-2985-465D-933B-DCD92625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CB5D3-7EB1-4668-B083-4F0A8D193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E0B0A-0A5E-4270-BBD1-B1DE9271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E9AA5-13FC-4286-945F-A94107B1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D0F31-45B6-4297-980E-E92912D5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92A64-92EE-462E-96BC-7CEF97B9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95AE-0D11-4BB3-9A30-E9A9C9E9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9295B-58DC-4485-8C4F-B09188FC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78041-1933-44E0-B89D-E25B1412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F0337-CA60-4C44-BC67-08D1B9BA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A891D-BB27-4E55-AC49-0F19C595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4864A-5880-4CB9-B513-24E19BBA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ACFA5-18B8-430A-B974-CAD2D72D8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2AB55-CC14-477F-9696-B3E86C78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6F46E-E857-4972-A661-23626C18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B0BEF-19EF-4126-9AE1-773F24FC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6C052-6912-4CDE-A858-073C3C79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A135-5555-47C1-99C3-72F10C54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DEE36-0097-42D5-B0DD-8270F4CC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19955-6F38-4310-81AB-07ED010C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FD7F9-56A8-4C4A-9E6D-F6BC725E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6DD53-0E63-47E7-B6D3-1C7555C8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DE02C-2D17-4FCC-AB95-975D01E4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EDD97-C36C-4E5D-B917-CE59A33F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9B4EB-2660-4866-A88F-3CAE7208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5E49C-33D6-4022-ACCE-B46709B67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41FE1-D9B0-4BB6-B8B8-E66164A0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AA378-9CB9-4C64-8114-2BE7F0393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0E22-400B-41A9-B96B-8CB82083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44F6E-FEE9-4F11-AF70-F781F721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9B7CD-4518-449D-9A23-577F2061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A91DB-8577-40D6-BF21-2F350946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94D2D-3949-4E72-AD5C-9D0694D0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B986C-C4DC-4DCD-AE9F-B9C1AC3C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32BD4-0324-49F0-B0F8-AB881A3E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2B3FB-7F14-4EC2-956A-E62AD852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39A5A-E51D-462B-ADCF-11DFB7AC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7A58A-F573-4EF3-9228-A4E97F03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9228F-5057-48C8-8B83-04172A18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87F6-A8A5-4675-A92E-9779D6A1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E57AE-CE95-4A52-9AFD-7B57193C6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340F5-EA80-4E4C-B9D6-0F47505FC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5E540-6482-4A98-9D2B-31746FBA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ADFA6-164C-41BC-BBAF-8AA67149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AD5E8-6366-4CF6-9B50-9A32B660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61BF4-87F5-43CE-9B0D-35041714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69796-0E73-4B16-910B-3A073CEA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A2D4E-BDB9-44EC-8944-16BD88E1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6DD4E-9F90-4F9B-8446-E4C15E41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D39DB-4177-4AFF-A2AC-1D0D725C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8413-22A5-45E4-A063-A20186AE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31607-F05D-46FB-A089-320F0604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1F324-D703-4C6E-9035-63F4CC27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06560-B24B-412F-AED8-F0B4A793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92BC5-71C1-4EF1-8341-0B570831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5EEEC-7D76-4FE2-8672-7A3E8546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27764-BD41-4D60-8367-B5E81D25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782A1-6B97-4C4C-B949-D0E021F9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44ED7-B577-4E10-8CC6-B8E39E64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2EC88-B2B3-4D8A-ADF2-493EEA19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C95D3-1625-4AA5-AA23-9E64F722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A562-E2F8-46B7-AA26-1779A503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4ACA5-7AAD-41A9-944C-9AFA856F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03910-7669-4947-ACE9-B280E74B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C472B-8B55-4353-A15F-5029C218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738D7-06FF-400F-9459-E5A09967F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73933-569D-48A1-8645-994D92D49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60287-647D-4661-805F-7558A7A9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17D2D-3C57-41D8-8CF2-3704C0FA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F03D6-9208-4EE1-B9C2-97F8DFEB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D54BE-B01B-46B4-851E-131C339B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509D3-D68E-43D5-883C-310C6BD9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0E20-1564-4A0A-B5F0-07719114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E77A3-D193-43E9-9D3A-C9729502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E5116-D60D-4AD2-8132-D4577347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D12D3-C95A-4FD5-A45B-DABF6381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C8B87-640E-4646-A7DD-DB5E806B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5DC4D-C244-412E-AF12-3933A400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055F5-C87D-43B7-8806-CAA5E07A5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688A3-7531-4E85-A8B3-F0FECD534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D170-46CA-4599-B159-FBA9DD75023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6B84-0755-4797-A525-446C76779BB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FC72-3E75-49DC-9C15-3D087BAC577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9762-85E6-4966-A1C6-0AE7201A651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2882-A8B1-4EC3-999A-F5EBC85F5C2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AF49-263A-493A-A45F-007D3001F78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67C3-40EF-41F3-9B21-955517EE233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F8FA-9BC4-4B38-A94B-291852BD026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93560" y="1384200"/>
            <a:ext cx="838224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Мобу « Новочеркасская СОШ»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Булдакова Л.П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15+2=17км/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15-2=13км/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)3 · 17 = 51км – расстояние по течению за три час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) 3· 13 = 39 км/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5) 68 : 17 = 4 часа по тече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) 78 : 13 =6 к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) 17-13 = 4км/час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5" descr="C:\Users\Любовь_2\Desktop\АВГУСТ - СЕНТЯБРЬ\КАРТИНКИ ПРЕЗ\img13.jpg"/>
          <p:cNvPicPr/>
          <p:nvPr/>
        </p:nvPicPr>
        <p:blipFill>
          <a:blip r:embed="rId2"/>
          <a:stretch/>
        </p:blipFill>
        <p:spPr>
          <a:xfrm>
            <a:off x="6143760" y="3857760"/>
            <a:ext cx="22860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арианты у вас на столе – приступайте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C:\Users\Любовь_2\Desktop\АВГУСТ - СЕНТЯБРЬ\КАРТИНКИ ПРЕЗ\sova.jpg"/>
          <p:cNvPicPr/>
          <p:nvPr/>
        </p:nvPicPr>
        <p:blipFill>
          <a:blip r:embed="rId2"/>
          <a:stretch/>
        </p:blipFill>
        <p:spPr>
          <a:xfrm>
            <a:off x="3571920" y="2428920"/>
            <a:ext cx="43336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№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9, 8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C:\Users\Любовь_2\Desktop\АВГУСТ - СЕНТЯБРЬ\КАРТИНКИ ПРЕЗ\304610_html_337cb6c1.jpg"/>
          <p:cNvPicPr/>
          <p:nvPr/>
        </p:nvPicPr>
        <p:blipFill>
          <a:blip r:embed="rId2"/>
          <a:stretch/>
        </p:blipFill>
        <p:spPr>
          <a:xfrm>
            <a:off x="5072040" y="1714680"/>
            <a:ext cx="278136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27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75" name="Picture 2" descr="C:\Users\Любовь_2\Desktop\АВГУСТ - СЕНТЯБРЬ\КАРТИНКИ ПРЕЗ\18873_html_509959cc.jpg"/>
          <p:cNvPicPr/>
          <p:nvPr/>
        </p:nvPicPr>
        <p:blipFill>
          <a:blip r:embed="rId2"/>
          <a:stretch/>
        </p:blipFill>
        <p:spPr>
          <a:xfrm>
            <a:off x="500040" y="1143000"/>
            <a:ext cx="8183520" cy="42861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571680" y="1213920"/>
            <a:ext cx="40003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№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2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669520" cy="1158840"/>
          </a:xfrm>
          <a:prstGeom prst="rect">
            <a:avLst/>
          </a:prstGeom>
          <a:ln w="0">
            <a:noFill/>
          </a:ln>
        </p:spPr>
      </p:pic>
      <p:sp>
        <p:nvSpPr>
          <p:cNvPr id="379" name="Прямая соединительная линия 4"/>
          <p:cNvSpPr/>
          <p:nvPr/>
        </p:nvSpPr>
        <p:spPr>
          <a:xfrm>
            <a:off x="1714680" y="2571840"/>
            <a:ext cx="5500440" cy="14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1" name="Прямая соединительная линия 7"/>
          <p:cNvSpPr/>
          <p:nvPr/>
        </p:nvSpPr>
        <p:spPr>
          <a:xfrm>
            <a:off x="3500280" y="1643040"/>
            <a:ext cx="4429440" cy="22147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TextBox 8"/>
          <p:cNvSpPr/>
          <p:nvPr/>
        </p:nvSpPr>
        <p:spPr>
          <a:xfrm>
            <a:off x="3429000" y="1428840"/>
            <a:ext cx="4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Овал 9"/>
          <p:cNvSpPr/>
          <p:nvPr/>
        </p:nvSpPr>
        <p:spPr>
          <a:xfrm>
            <a:off x="3429000" y="1643040"/>
            <a:ext cx="71280" cy="4608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TextBox 10"/>
          <p:cNvSpPr/>
          <p:nvPr/>
        </p:nvSpPr>
        <p:spPr>
          <a:xfrm>
            <a:off x="7643880" y="3429000"/>
            <a:ext cx="5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TextBox 11"/>
          <p:cNvSpPr/>
          <p:nvPr/>
        </p:nvSpPr>
        <p:spPr>
          <a:xfrm>
            <a:off x="6779880" y="25002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Прямая соединительная линия 13"/>
          <p:cNvSpPr/>
          <p:nvPr/>
        </p:nvSpPr>
        <p:spPr>
          <a:xfrm>
            <a:off x="2000160" y="3357720"/>
            <a:ext cx="3357720" cy="2357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Прямая соединительная линия 15"/>
          <p:cNvSpPr/>
          <p:nvPr/>
        </p:nvSpPr>
        <p:spPr>
          <a:xfrm flipV="1">
            <a:off x="1143000" y="4500360"/>
            <a:ext cx="5357880" cy="1143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Овал 16"/>
          <p:cNvSpPr/>
          <p:nvPr/>
        </p:nvSpPr>
        <p:spPr>
          <a:xfrm flipH="1">
            <a:off x="1999440" y="3357720"/>
            <a:ext cx="71640" cy="7128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TextBox 17"/>
          <p:cNvSpPr/>
          <p:nvPr/>
        </p:nvSpPr>
        <p:spPr>
          <a:xfrm>
            <a:off x="2071800" y="2928960"/>
            <a:ext cx="4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TextBox 18"/>
          <p:cNvSpPr/>
          <p:nvPr/>
        </p:nvSpPr>
        <p:spPr>
          <a:xfrm>
            <a:off x="4919040" y="51436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Овал 19"/>
          <p:cNvSpPr/>
          <p:nvPr/>
        </p:nvSpPr>
        <p:spPr>
          <a:xfrm>
            <a:off x="1214280" y="5643720"/>
            <a:ext cx="46080" cy="7128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TextBox 20"/>
          <p:cNvSpPr/>
          <p:nvPr/>
        </p:nvSpPr>
        <p:spPr>
          <a:xfrm>
            <a:off x="1143000" y="5715000"/>
            <a:ext cx="4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TextBox 21"/>
          <p:cNvSpPr/>
          <p:nvPr/>
        </p:nvSpPr>
        <p:spPr>
          <a:xfrm>
            <a:off x="6204600" y="442908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TextBox 22"/>
          <p:cNvSpPr/>
          <p:nvPr/>
        </p:nvSpPr>
        <p:spPr>
          <a:xfrm>
            <a:off x="4214880" y="4714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орость волка -  у м/мин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орость  зайца – х м/ мин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&gt; 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) 10: ( У-Х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7" name="Прямая соединительная линия 4"/>
          <p:cNvSpPr/>
          <p:nvPr/>
        </p:nvSpPr>
        <p:spPr>
          <a:xfrm flipV="1">
            <a:off x="857160" y="3571560"/>
            <a:ext cx="7215120" cy="1429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Овал 5"/>
          <p:cNvSpPr/>
          <p:nvPr/>
        </p:nvSpPr>
        <p:spPr>
          <a:xfrm flipH="1" flipV="1">
            <a:off x="811080" y="3642480"/>
            <a:ext cx="46080" cy="716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399" name="Прямая со стрелкой 7"/>
          <p:cNvCxnSpPr/>
          <p:nvPr/>
        </p:nvCxnSpPr>
        <p:spPr>
          <a:xfrm>
            <a:off x="1000080" y="4285800"/>
            <a:ext cx="1357920" cy="25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00" name="TextBox 8"/>
          <p:cNvSpPr/>
          <p:nvPr/>
        </p:nvSpPr>
        <p:spPr>
          <a:xfrm>
            <a:off x="1357200" y="400068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 м/мин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Овал 9"/>
          <p:cNvSpPr/>
          <p:nvPr/>
        </p:nvSpPr>
        <p:spPr>
          <a:xfrm>
            <a:off x="3929040" y="3643200"/>
            <a:ext cx="46080" cy="1429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402" name="Прямая со стрелкой 11"/>
          <p:cNvCxnSpPr/>
          <p:nvPr/>
        </p:nvCxnSpPr>
        <p:spPr>
          <a:xfrm flipV="1">
            <a:off x="4285800" y="3285360"/>
            <a:ext cx="1429560" cy="723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403" name="TextBox 13"/>
          <p:cNvSpPr/>
          <p:nvPr/>
        </p:nvSpPr>
        <p:spPr>
          <a:xfrm>
            <a:off x="4457160" y="30718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Х м/мин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Дуга 14"/>
          <p:cNvSpPr/>
          <p:nvPr/>
        </p:nvSpPr>
        <p:spPr>
          <a:xfrm>
            <a:off x="857160" y="3643200"/>
            <a:ext cx="46080" cy="71640"/>
          </a:xfrm>
          <a:prstGeom prst="pie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Дуга 15"/>
          <p:cNvSpPr/>
          <p:nvPr/>
        </p:nvSpPr>
        <p:spPr>
          <a:xfrm>
            <a:off x="857160" y="3714840"/>
            <a:ext cx="71640" cy="46080"/>
          </a:xfrm>
          <a:prstGeom prst="pie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Круговая стрелка 16"/>
          <p:cNvSpPr/>
          <p:nvPr/>
        </p:nvSpPr>
        <p:spPr>
          <a:xfrm>
            <a:off x="857160" y="3357720"/>
            <a:ext cx="3214800" cy="357120"/>
          </a:xfrm>
          <a:prstGeom prst="pi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TextBox 17"/>
          <p:cNvSpPr/>
          <p:nvPr/>
        </p:nvSpPr>
        <p:spPr>
          <a:xfrm>
            <a:off x="2286000" y="3000240"/>
            <a:ext cx="5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10м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TextBox 18"/>
          <p:cNvSpPr/>
          <p:nvPr/>
        </p:nvSpPr>
        <p:spPr>
          <a:xfrm>
            <a:off x="2428920" y="385776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А)( у – х )м/мин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357120" y="1428840"/>
          <a:ext cx="8229600" cy="46908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1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d3c4a"/>
                    </a:solidFill>
                  </a:tcPr>
                </a:tc>
              </a:tr>
              <a:tr h="115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а+3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8e9"/>
                    </a:solidFill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4а-2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2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Lucida Sans Unicode"/>
                        </a:rPr>
                        <a:t>3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d0"/>
                    </a:solidFill>
                  </a:tcPr>
                </a:tc>
              </a:tr>
            </a:tbl>
          </a:graphicData>
        </a:graphic>
      </p:graphicFrame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10:10      1200:100      150:10    245000:10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700  ·100     82 · 1000  750 · 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одной стопке  35 тетр, а в другой 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 раза &gt;, на 15 &gt;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нига стоит 120 руб, альбом в 2 раза дешевл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олько стоит альбом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.Построить прямую АВ; на отрезке АВ отметить  точку С, через С провести прямую с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. Прямую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K L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и отрезок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N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, пересекающиеся в точке  О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. Построить пересекающиеся прямые АВ и СД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. построить лучи  АК, АМ, АД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корость течения реки -2км/ч, собственная скорость  катера 15 км/час. Составьте выражения и найти их знач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скорость катера  при движении по воде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против движения воды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3) расстояние которое пройдет катер за три часа по течению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)расстояние за три часа против течени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) время  на прохождение 68км по течению реки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5) время на прохождение 78 км при движении против течения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) на сколько скорость катера по течению больше скорости против течен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2T17:09:18Z</dcterms:created>
  <dc:creator>Любовь</dc:creator>
  <dc:description/>
  <dc:language>en-US</dc:language>
  <cp:lastModifiedBy>Любовь</cp:lastModifiedBy>
  <dcterms:modified xsi:type="dcterms:W3CDTF">2015-09-22T18:40:22Z</dcterms:modified>
  <cp:revision>2</cp:revision>
  <dc:subject/>
  <dc:title>Урок математики в 5классе по теме « Прямая, отрезок и луч»</dc:title>
</cp:coreProperties>
</file>